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259-E137-47B5-8A66-05DD2B9B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000-E910-4CD6-8F44-633AEBE3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5C22-F036-477D-AFB1-D17A5FBC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B61-71D8-48DB-828C-D7FFF1ED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E10A-1184-4515-8368-46DF83E1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4F7B-1EEC-40A9-9D21-69618527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C26D-E3DA-401E-AF8A-A5AE378D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C447-6326-4670-9632-CB1BFA7A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D6CA-EF5A-4179-AC8C-B2D166F8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DD09-3AD9-4D70-BA44-18B1E71E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5420-9DDC-4221-A159-55745E5B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DD5-E1EB-4CE7-873D-A7B02606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165B-3A99-405F-B211-72129844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5927-DCE5-424B-8F3C-78FA6D17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3BA3-4B88-41CB-B173-EBF3073E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9889-3BE5-4FB3-BF93-ECFD768B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8ACE-A252-4B2F-8C27-D78B4910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599-C308-44D3-AEAA-C314FF16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8338-CE27-4DA3-B91D-83057886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F80-B32D-4E55-AA33-A1587674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02E-B4A2-49AD-99BC-E3009637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4BE-D3D1-4762-9DAE-F6AAA8EB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397-4C93-4228-983F-0806EF24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33B-6423-4971-9256-6A590DBB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7E6B-2531-40BD-AD72-888FB3593A33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6E1E-5E40-4A04-8FB8-0D7C78947979}" type="slidenum"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082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’analisi delle reti soci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7923-CCE5-43E9-B2AB-C7F34457298E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271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Come ci giudicano gli altri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889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Il </a:t>
            </a:r>
            <a:r>
              <a:rPr b="0" i="1" lang="it-IT" sz="2600" spc="-1" strike="noStrike">
                <a:solidFill>
                  <a:srgbClr val="545472"/>
                </a:solidFill>
                <a:latin typeface="Tahoma"/>
              </a:rPr>
              <a:t>test di percezione</a:t>
            </a: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 costituisce un ulteriore raffinamento dell’approccio sociometrico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A ciascun partecipante viene chiesto di indicare le persone che, secondo lui, lo hanno scelto o rifiutato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Questa possibilità collega la sociometria ad un idea centrale (sviluppata da Cooley, Mead e l’interazionismo simbilico) nella tradizione della psicologia sociale: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noi formiamo la nostra identità guardandoci 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nello “specchio” delle opinioni che gli altri 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hanno di noi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3321-D965-4F8B-B0B2-DAAF2B77297B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Dalla Sociometria alla </a:t>
            </a:r>
            <a:r>
              <a:rPr b="0" i="1" lang="it-IT" sz="4000" spc="-1" strike="noStrike">
                <a:solidFill>
                  <a:srgbClr val="660066"/>
                </a:solidFill>
                <a:latin typeface="Tahoma"/>
              </a:rPr>
              <a:t>Social Network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280" y="1909440"/>
            <a:ext cx="8964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vvero … dall’attrazione / repulsione ai flussi di comunicazio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on si indagano più gruppi chiusi, ma maglie aperte di relazioni interpersonali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on si studiano più le strutture delle simpatie, ma il sistema dei contatti; perde senso la valutazione della reciprocità della designazio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5C2F-C9B8-4D5A-B151-83EDED3F361E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Dalla Sociometria alla </a:t>
            </a:r>
            <a:r>
              <a:rPr b="0" i="1" lang="it-IT" sz="4000" spc="-1" strike="noStrike">
                <a:solidFill>
                  <a:srgbClr val="660066"/>
                </a:solidFill>
                <a:latin typeface="Tahoma"/>
              </a:rPr>
              <a:t>Social Network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280" y="1909440"/>
            <a:ext cx="8964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Perde significato il concetto di struttura a vantaggio di quello di ret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La rete non esiste di per sé, ma in relazione a un determinato flusso di comunicazione (che può veicolare contenuti diversi)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Quindi all’interno di un gruppo possono esistere più reti; una rete può attraversare un gruppo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0363-7DC8-4AF1-8795-1A7C034A5808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6472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Problema metodologico: i confini delle re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6160" y="1906560"/>
            <a:ext cx="88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In fase di progettazione, il ricercatore deve stabilire i confini della rete che studia. Quando questi non sono stabiliti dal committente o da caratteristiche strutturali, il ricercatore ha 2 possibilità: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675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tentare delle definizioni da sottoporre a controllo empirico;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675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ricostruire i confini in base alle percezioni di chi fa parte della rete che sta studiando.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A447-F7A2-4023-9083-2C56E4D77619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964720" cy="69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Problema metodologico: il campioname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6160" y="1268280"/>
            <a:ext cx="88185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Quando intende studiare reti molto estese, il ricercatore potrebbe aver bisogno di operare un campionament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logica campionaria tradizionale è stata pensata per selezionare individui e non reti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tecnica di campionamento più adatta alla rilevazione delle reti è lo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snow-ball sampling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n questo caso, la scelta dei punti di campionamento iniziale dipende dalla densità della rete, piuttosto che semplicemente dalla sua dimension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D6F4-98AB-474B-8DDD-03828D72DE2B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560" y="333000"/>
            <a:ext cx="88218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660066"/>
                </a:solidFill>
                <a:latin typeface="Tahoma"/>
              </a:rPr>
              <a:t>Network analysis e teoria sociologica: il concetto di capitale sociale</a:t>
            </a:r>
            <a:endParaRPr b="0" lang="en-US" sz="3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Per </a:t>
            </a:r>
            <a:r>
              <a:rPr b="1" lang="it-IT" sz="2400" spc="-1" strike="noStrike">
                <a:solidFill>
                  <a:srgbClr val="545472"/>
                </a:solidFill>
                <a:latin typeface="Tahoma"/>
              </a:rPr>
              <a:t>capitale sociale</a:t>
            </a: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 si intende: l’insieme degli aspetti della struttura sociale che aiutano le persone ad agire collettivamente migliorando il benessere sociale, la crescita e lo sviluppo. Si tratta di un concetto multi-dimensionale e dinamico, che comprende le reti di relazioni interpersonali, le norme sociali e le istituzioni formali e informali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Al di là delle importanti differenze che caratterizzano i diversi approcci al capitale sociale, questo concetto costituisce – potenzialmente – una rivoluzione copernicana in sociologia: esso infatti sposta l’attenzione dei ricercatori (e quindi anche il loro modo di fare indagine) dagli attributi individuali a quelli delle relazioni in cui gli individui sono immersi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8D4F-205C-4140-B8F9-C66CE4E586D1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836280"/>
            <a:ext cx="89647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660066"/>
                </a:solidFill>
                <a:latin typeface="Tahoma"/>
              </a:rPr>
              <a:t>Sociometria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2131560"/>
            <a:ext cx="89596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45472"/>
                </a:solidFill>
                <a:latin typeface="Tahoma"/>
              </a:rPr>
              <a:t>Nel 1925 Jacob Moreno presenta al mondo la Sociometria: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45472"/>
                </a:solidFill>
                <a:latin typeface="Tahoma"/>
              </a:rPr>
              <a:t>Repertorio di tecniche di ricerca quantitativa che rilevano e studiano i processi di attrazione e comunicazione che si sviluppano nei gruppi piccoli.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DE7E-BFF8-4E8A-9864-759A13FD4795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26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ra ricerca e terap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ella visione di Moreno, la sociometria era più di una tecnica di ricerca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ltre a rilevare lo stato delle relazioni interpersonali all’interno di un gruppo, una ricerca sociometrica dovrebbe anche mobilitare, coinvolgere, rendere i membri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consapevol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del e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interessat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al proprio gruppo. In questo senso, era un vero e proprio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trattamento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9E78-904F-4322-94FD-57970C178C33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266760"/>
            <a:ext cx="896472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Il “raffreddamento” della Sociomet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8920" y="1546200"/>
            <a:ext cx="88203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Ben presto (fine anni ’30) la sociometria perde la sua missione terapeutica, trasformandosi in una affermata tecnica di rilevazione particolarmente usata dagli psicologi.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Il suo obiettivo è soprattutto rilevare l’</a:t>
            </a:r>
            <a:r>
              <a:rPr b="0" i="1" lang="it-IT" sz="3000" spc="-1" strike="noStrike">
                <a:solidFill>
                  <a:srgbClr val="545472"/>
                </a:solidFill>
                <a:latin typeface="Tahoma"/>
              </a:rPr>
              <a:t>attrazione interpersonale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, cioè il processo di scelta che sta alla base delle strutture di relazione e comunicazione dei piccoli gruppi.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DF12-6AD1-496F-9582-1F041CAF7AFE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l test sociometr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Sostanzialmente si basa su due domande: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Con chi vai più d’accordo tra i membri del gruppo?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Con chi non vai d’accordo tra i membri del gruppo?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A partire da questo nucleo centrale sono stati sviluppati diversi affinamenti, ognuno dei quali si basa su un diverso criterio di attrazione (con chi lavori meglio, a chi affideresti un progetto, con chi andresti a fare una vacanza, a chi affideresti tuo figlio, etc.)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32DB-2940-462B-9FF0-856E7DA1EA71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9440" y="698040"/>
            <a:ext cx="82789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parare un test socimetr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835280"/>
            <a:ext cx="89978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Quando si realizza un test sociometrico, a ciascun partecipante viene chiesto di designare un numero prefissato di scelte e di repulsioni. Affinché i dati ottenuti con un test sociometrico siano validi, il ricercatore deve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hiarire il senso di concetti come “accordo”, “preferenza”, etc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onvincere i partecipanti a svolgere lo scomodo compito di indicare simpatici e antipatici 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3862-9CFB-44C5-8BFA-CE2BAC984B6F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La matrice sociometric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250920" y="946080"/>
          <a:ext cx="8713800" cy="557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46080"/>
                    <a:ext cx="871380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7A26-5CFE-4122-ACA2-86DB33275E28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5404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a matrice sociometrica per studiare individui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1080" y="1474560"/>
            <a:ext cx="827856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 partecipanti a un test sociometrico possono essere classificati in base 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status sociometric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bilancio delle scelte e dei rifiuti ricevuti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la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centralità sociometrica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bilancio delle scelte e dei rifiuti reciproci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grado di isolament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numero di designazioni ricevute, indipendentemente dal fatto che si tratti di scelte o rifiuti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477F-93FE-4EBE-A960-9F8EEFAC8FDB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6472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a matrice sociometrica per studiare i sotto-gruppi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1080" y="1690200"/>
            <a:ext cx="8712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Oltre alle domande per fare le designazioni, il ricercatore può includere in un test sociometrico altre domande classiche da questionario (età, sesso, stato civile, ruolo nell’organizzazione, etc.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Successivamente, i partecipanti al test sociometrico possono essere divisi in sottogruppi per analizzare il grado di apertura (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in-group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/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out-group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) di ciascun sottogrupp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21:40:13Z</dcterms:created>
  <dc:creator>Gabriella</dc:creator>
  <dc:description/>
  <dc:language>en-US</dc:language>
  <cp:lastModifiedBy>vitali</cp:lastModifiedBy>
  <dcterms:modified xsi:type="dcterms:W3CDTF">2008-08-26T12:48:22Z</dcterms:modified>
  <cp:revision>96</cp:revision>
  <dc:subject/>
  <dc:title>Esercitazione 16 novembre 2004</dc:title>
</cp:coreProperties>
</file>